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9CA-E9C9-4FF6-B220-E2B29629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B67-44B2-4FE4-A194-2D2D6FE0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454-B1E8-4721-B4A2-A28DB4FC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B32-7129-43CC-BB05-ADA3D02F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5A1D-53DD-4266-8392-63660271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E40-B009-4B84-A9CF-C9DDD84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42F-5E0D-4A11-A66A-E40C4B99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D88-438A-49EB-8EC4-5D844C5D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A99-AA02-44A0-8D92-AE65ABBD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6A3-6B2A-4DFD-8A31-18936827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124-3B1F-4090-93B5-4D49BC66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5A9-160F-47AF-A6D5-6066B22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97B7-C4AE-4A66-9850-B943FEFABE0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ضاعفة الحرف الساكن الأخ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981080"/>
            <a:ext cx="2666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ضاعف الحرف الساكن الاخير اذ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مة بمقطع واحد وتنتهي بحرف علة + ساك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علة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981080"/>
            <a:ext cx="2438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كننا لا نضاعف اذا كان هنا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حرفين علة او ساك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لم تنتهي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 انتهت الكلمة 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تغيير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غي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لي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اذا انتهت الكلمة بساكن +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غير اذا انتهت الكلمة بعلة 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حذف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في اخر الكل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حذ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كانت لا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أ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 + l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حذفها اذ كانت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اضاف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981080"/>
            <a:ext cx="5410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ض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انتهت الكلمة ب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 – s – sh – x –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واحيانا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اءا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to – pho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904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u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es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for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777240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a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o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consi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c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72000"/>
            <a:ext cx="7772400" cy="190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ay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nj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ntro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rave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r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ope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pre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0:17Z</dcterms:created>
  <dc:creator>Bafayad</dc:creator>
  <dc:description/>
  <dc:language>en-US</dc:language>
  <cp:lastModifiedBy>معمل الانجليزي</cp:lastModifiedBy>
  <dcterms:modified xsi:type="dcterms:W3CDTF">2005-03-21T07:20:04Z</dcterms:modified>
  <cp:revision>11</cp:revision>
  <dc:subject/>
  <dc:title>عرض تقديمي من PowerPoint</dc:title>
</cp:coreProperties>
</file>